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94023"/>
        <c:axId val="89214965"/>
      </c:barChart>
      <c:catAx>
        <c:axId val="97094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14965"/>
        <c:crosses val="autoZero"/>
        <c:auto val="1"/>
        <c:lblAlgn val="ctr"/>
        <c:lblOffset val="100"/>
        <c:noMultiLvlLbl val="0"/>
      </c:catAx>
      <c:valAx>
        <c:axId val="89214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4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AEF-AED7-45AB-9D29-A07F7685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F73-03E6-4CB3-8239-E7BD4A2B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121-DFC7-4DD2-A289-E627B55F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98E-F2E6-45EF-9062-5BEC4CE4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584-82FD-43A1-B255-3590011C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649-F447-4FFF-A1B0-355025F0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DE7-79E2-4164-BE30-B25D1884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EEC-91D5-4F12-9B0D-811FDB9C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330-D387-4335-8ABC-CCAD01E4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45B-4030-45CE-981A-AAEF5D9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623-4A17-470B-97B6-889FE2B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B3A-3536-4EEE-B4EE-782E211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9D5D5-E59D-4358-BE77-72C9770931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