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219971"/>
        <c:axId val="95805222"/>
      </c:barChart>
      <c:catAx>
        <c:axId val="972199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05222"/>
        <c:crosses val="autoZero"/>
        <c:auto val="1"/>
        <c:lblAlgn val="ctr"/>
        <c:lblOffset val="100"/>
        <c:noMultiLvlLbl val="0"/>
      </c:catAx>
      <c:valAx>
        <c:axId val="958052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199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24CF-AAC9-48B1-AF45-D617E07B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CDF9-6703-4730-8A79-F7575E92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51F2-2FA2-4867-A40B-DAC85BD8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B500-A90B-476B-80E1-2F1046C5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7369-E913-4FD6-B93E-24ECB176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1202-A75E-415C-A36A-15AB0D1E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73A6-0E40-48DD-9A41-59E5EBAF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1354-85DA-46D4-B00F-F1BB528F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EECA-E396-44FC-9AE5-5632FFA9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7BF0-950D-45F8-B8F1-7FA88A6E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E0BE-E364-4A2A-8B62-EDB2D0EE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45F8-0309-4C31-AB89-684E0ABA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584E5-7C70-4581-B0D7-0E85A5B8EF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