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031031"/>
        <c:axId val="13280304"/>
      </c:barChart>
      <c:catAx>
        <c:axId val="560310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80304"/>
        <c:crosses val="autoZero"/>
        <c:auto val="1"/>
        <c:lblAlgn val="ctr"/>
        <c:lblOffset val="100"/>
        <c:noMultiLvlLbl val="0"/>
      </c:catAx>
      <c:valAx>
        <c:axId val="132803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310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FEF9-BADF-4C65-BFF7-23FF102B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013C-FF2E-48D9-8235-42064C2F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34EE-78C8-485D-A3BC-F63A6385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C7D0-5644-477D-BC2A-BA0B285B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016E-4299-41D5-81D7-B5A069E7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D3D8-D5E7-4939-AEBE-BE720468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1CB-1B24-4F4F-851B-92DBEF78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5E26-6CD2-47EF-9450-FBCC4387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38EB-B51E-4E42-A5E4-C9E96BB6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E6BF-F4E0-4BA2-B277-B8F1FC3B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D49F-DDC0-4CDE-9895-EB749F66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0710-9F76-49E7-9D23-46886EDB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B25CC-57E8-41D6-92AC-E0E7B9A3FB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